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4AC-DB0B-4BF2-AA93-195AED5C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9F9-172E-454B-B18A-0A1A360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703-8A29-4AE4-8A9A-170D2D3C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41E-53F2-4B8B-865F-65230426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CC6-3C5E-4322-B3E4-CDB5E25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903-BF90-44DE-A1BD-6B3271B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2CA-2386-4C02-8314-864403F3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7CB-E363-4733-A7DF-02B61E4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6B0-A51F-4A16-A1FB-76A4E6E4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6FD-67AC-4391-9897-B931DE7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9D6-3A01-4878-AFC1-35C3769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B9F-2FE3-4BF6-852F-3288EE8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FAB-B02C-46F8-93EF-E3D486327E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3848040"/>
            <a:ext cx="6553080" cy="300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243828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2438640" cy="16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516720" y="5084640"/>
            <a:ext cx="24382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79280" y="5084640"/>
            <a:ext cx="24386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 rot="21580200">
            <a:off x="912600" y="303120"/>
            <a:ext cx="7689600" cy="2135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32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7 až 10. septembra vo Vašej obci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67320" y="6216120"/>
            <a:ext cx="92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Szeptember 7.-től – 10.-ig az önök  községéb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9:32:07Z</dcterms:created>
  <dc:creator>User</dc:creator>
  <dc:description/>
  <dc:language>en-US</dc:language>
  <cp:lastModifiedBy>Výcvik a plánovanie</cp:lastModifiedBy>
  <dcterms:modified xsi:type="dcterms:W3CDTF">2009-08-18T07:16:32Z</dcterms:modified>
  <cp:revision>4</cp:revision>
  <dc:subject/>
  <dc:title>Prezentace aplikace PowerPoint</dc:title>
</cp:coreProperties>
</file>