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FF4-7C46-44AD-B447-B7E76956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751-C83E-4CCA-8D1B-9B74C189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10A-8F42-4F87-8E9A-7DBFA8FF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8DC-8EB9-40F8-AF32-E98F3546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B88D-1AFB-46EB-9E08-C784EFA6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0598-4C42-48BD-A10F-D702A643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16DA-349F-4C9A-9CD9-5BA08767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4A1B-BC21-48BC-8E9D-9D5F948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7982-6203-4EE5-9A95-1E034E7D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7EED-708E-49EE-BD2C-89DF122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5B78-95F9-4783-94A5-CBCA0A28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8D9-9B9C-43E2-9966-382D9D86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5A1B-DD89-4561-AE77-5763D8E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2F4B-2951-414B-84C7-506E4817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A297-AD08-4FA9-BA29-E88B6515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B0E4-E733-47FB-A40A-ECF67C2E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467-07F8-4EA4-973C-C36A546F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5E8-3F4B-4640-9A16-EA181E85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FEA-F2A0-4F11-B49E-1EA96E30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E10-AB80-48C5-9D82-61AE0681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D96-654B-41DD-9538-F42EB82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597-B651-4D7F-9BFB-F32F50CF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FD6-F515-42C2-8FFD-45451853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D2A-5341-44BF-9999-8E3290D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3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6A9-C0E6-45B1-A99B-801ED7EC09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1802-F872-4680-9D52-FF44CE81D4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dnz.sk/" TargetMode="External"/><Relationship Id="rId2" Type="http://schemas.openxmlformats.org/officeDocument/2006/relationships/hyperlink" Target="http://www.vlaky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195640" y="333000"/>
            <a:ext cx="66434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íprava cestovných poriadkov pravidelných autobusových liniek pre ročník 2013/2014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ážení cestujúci!</a:t>
            </a:r>
            <a:br>
              <a:rPr sz="1600"/>
            </a:b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ARRIVA Nové Zámky, a.s. v súčasnosti zahajuje prípravu cestovných poriadkov mestských, prímestských a diaľkových liniek pre ročník 2013/2014. 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Pri príprave cestovných poriadkov i v tomto ročníku vynaložíme maximálne úsilie zabezpečiť dovoz, odvoz cestujúcich do zamestnania a do škôl k celkovej spokojnosti  Vás, našich cestujúcich a  v neposlednej miere sa  budeme snažiť zachovať prípoje k vlakom ŽSR v našom regióne, pokiaľ to bude dovoľovať turnusový obeh vozidiel .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Aktuálne cestovné poriadky autobusovej dopravy nájdete na stránke: </a:t>
            </a:r>
            <a:r>
              <a:rPr b="0" lang="sk-SK" sz="1600" spc="-1" strike="noStrike" u="sng">
                <a:solidFill>
                  <a:srgbClr val="e4005c"/>
                </a:solidFill>
                <a:uFillTx/>
                <a:latin typeface="Tahoma"/>
                <a:hlinkClick r:id="rId1"/>
              </a:rPr>
              <a:t>www.sadnz.sk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Konečný návrh grafikonu vlakovej dopravy  2013/2014 pre osobnú dopravu je k nahliadnutiu na webovej stránke : </a:t>
            </a:r>
            <a:r>
              <a:rPr b="0" lang="sk-SK" sz="1600" spc="-1" strike="noStrike" u="sng">
                <a:solidFill>
                  <a:srgbClr val="e4005c"/>
                </a:solidFill>
                <a:uFillTx/>
                <a:latin typeface="Tahoma"/>
                <a:hlinkClick r:id="rId2"/>
              </a:rPr>
              <a:t>www.vlaky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Prosíme Vás, Vaše požiadavky, pripomienky a podnety odovzdajte  na Vašich obecných úradoch najneskôr do 20.9.2013.</a:t>
            </a:r>
            <a:br>
              <a:rPr sz="1600"/>
            </a:b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ARRIVA Nové Zámky, a.s. Vám vopred  ďakuje za spoluprácu. 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S úctou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sk-SK" sz="1000" spc="-1" strike="noStrike">
                <a:solidFill>
                  <a:srgbClr val="000000"/>
                </a:solidFill>
                <a:latin typeface="Tahoma"/>
              </a:rPr>
              <a:t>dopravný úsek  ARRIVA Nové Zámky, a.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3573360"/>
            <a:ext cx="9367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c0c0c0"/>
                </a:solidFill>
                <a:latin typeface="Courier New"/>
              </a:rPr>
              <a:t>Cestovné poriadky</a:t>
            </a:r>
            <a:endParaRPr b="0" lang="en-US" sz="1600" spc="1" strike="noStrike">
              <a:ln w="9360">
                <a:solidFill>
                  <a:srgbClr val="c0c0c0"/>
                </a:solidFill>
                <a:miter/>
              </a:ln>
              <a:solidFill>
                <a:srgbClr val="c0c0c0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c0c0c0"/>
                </a:solidFill>
                <a:latin typeface="Courier New"/>
              </a:rPr>
              <a:t>2012/2013</a:t>
            </a:r>
            <a:endParaRPr b="0" lang="en-US" sz="1600" spc="1" strike="noStrike">
              <a:ln w="9360">
                <a:solidFill>
                  <a:srgbClr val="c0c0c0"/>
                </a:solidFill>
                <a:miter/>
              </a:ln>
              <a:solidFill>
                <a:srgbClr val="c0c0c0"/>
              </a:solidFill>
              <a:latin typeface="Courier New"/>
              <a:ea typeface="Courier New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11280" y="5229360"/>
            <a:ext cx="9363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333333"/>
                </a:solidFill>
                <a:latin typeface="Courier New"/>
              </a:rPr>
              <a:t>Cestovné poriadky</a:t>
            </a:r>
            <a:endParaRPr b="0" lang="en-US" sz="1600" spc="1" strike="noStrike">
              <a:ln w="9360">
                <a:solidFill>
                  <a:srgbClr val="808080"/>
                </a:solidFill>
                <a:miter/>
              </a:ln>
              <a:solidFill>
                <a:srgbClr val="333333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333333"/>
                </a:solidFill>
                <a:latin typeface="Courier New"/>
              </a:rPr>
              <a:t>2013/2014</a:t>
            </a:r>
            <a:endParaRPr b="0" lang="en-US" sz="1600" spc="1" strike="noStrike">
              <a:ln w="9360">
                <a:solidFill>
                  <a:srgbClr val="808080"/>
                </a:solidFill>
                <a:miter/>
              </a:ln>
              <a:solidFill>
                <a:srgbClr val="333333"/>
              </a:solidFill>
              <a:latin typeface="Courier New"/>
              <a:ea typeface="Courier New"/>
            </a:endParaRPr>
          </a:p>
        </p:txBody>
      </p:sp>
      <p:sp>
        <p:nvSpPr>
          <p:cNvPr id="88" name=""/>
          <p:cNvSpPr txBox="1"/>
          <p:nvPr/>
        </p:nvSpPr>
        <p:spPr>
          <a:xfrm rot="20949600">
            <a:off x="158400" y="334440"/>
            <a:ext cx="1942920" cy="12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Svoje podnety zasielajte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do 20.9.2013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0" y="3573360"/>
            <a:ext cx="212400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573360"/>
            <a:ext cx="212400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7:41:51Z</dcterms:created>
  <dc:creator>Scibraniova</dc:creator>
  <dc:description/>
  <dc:language>en-US</dc:language>
  <cp:lastModifiedBy>Scibraniova</cp:lastModifiedBy>
  <dcterms:modified xsi:type="dcterms:W3CDTF">2013-09-05T09:45:27Z</dcterms:modified>
  <cp:revision>4</cp:revision>
  <dc:subject/>
  <dc:title>Vážení cestujúci! SAD Nové Zámky a.s. v súčasnosti zahajuje prípravu cestovných poriadkov mestských, prímestských a diaľkových liniek pre ročník 2012/2013.  Týmto Vás chceme požiadať o zasielanie podnetov a pripomienok k súčasným cestovným poriadkom . Pri príprave cestovných poriadkov i v tomto ročníku vynaložíme úsilie zabezpečiť dovoz, odvoz cestujúcich do zamestnania a do škôl k celkovej spokojnosti  Vás našich cestujúcich a  v neposlednej miere sa  budeme snažiť zachovať prípoje k vlakom ŽSR v našom regióne, pokiaľ to bude dovoľovať turnusový obeh vozidiel .  Aktuálne cestovné poriadky autobusovej dopravy nájdete na stránke: www.sadnz.sk Konečný návrh GVD 2012/2013 pre osobnú dopravu je k nahliadnutiu na webovej stránke : www.vlaky.net  Prosíme Vás o spoluprácuV mene SAD Nové Zámky, a.s. Vám vopred  ďakujem za spoluprácu.  S úctou  Ing. Hana Jahodníková v.r. dopravná riaditeľka              SAD Nové Zámky, a.s.</dc:title>
</cp:coreProperties>
</file>